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5C8-3CF6-4DD6-8DA9-95B2EAFD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3CE-C2FC-4206-8262-75D0135A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7FD-B0ED-4340-B3CD-B33A2C70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2CC2-AE2B-4A2A-AFC0-10A40662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D661-F112-4C7E-82C4-4363CEE9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066-EC06-49B6-9756-F29C747B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2726-32DF-488A-8850-DC1B025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8A88-B60A-4F50-84EF-5B56A691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781-622B-4D25-925A-79F712C1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DD37-603A-4991-ABE8-AB3E9066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A1E3-DA3A-44AD-8924-DBE3F96C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D00-9CFB-49CA-B7F1-371FE46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EB7F-9ECC-4A07-986F-76B9B66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79C5-1D8D-4B10-909D-2BBD61E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3EF8-D5BC-45BC-8FC3-A7929B70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BF11-45D8-4686-B8B7-02738BAE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1779-6C18-474C-9C54-CA766320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1FF-65A7-4A9F-AFB6-92F809A8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BB4-C3E8-4EDF-AFBF-9244A18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612-EF46-4F7A-BF2F-28290C98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021C-D8D3-4FDF-83A7-B4C34321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0F6-D033-436D-9C12-0044C79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BFA-F273-470A-B471-0174D687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FF7-C8E7-468E-8D9D-F7BF3819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A515-4FED-42E7-8508-6A9B8F712F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719-1C90-4C4A-A428-F8162AF8EE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ullacresta.it/squalo/Great%2520White%2520Shark%2520(2).jpg&amp;imgrefurl=http://bwyb.blogspot.com/2004_06_01_archive.html&amp;h=600&amp;w=800&amp;sz=60&amp;hl=en&amp;start=14&amp;tbnid=05oru6HkfRYl0M:&amp;tbnh=107&amp;tbnw=143&amp;prev=/images%3Fq%3Dsharks%26gbv%3D2%26hl%3Den%26sa%3D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cache2.allposters.com/images/pic/APG/F102262~Intimidation-Sharks-Posters.jpg&amp;imgrefurl=http://www.allposters.com/-sp/Intimidation-Sharks-Posters_i374446_.htm&amp;h=450&amp;w=353&amp;sz=28&amp;hl=en&amp;start=29&amp;tbnid=l3KqU_uMJ-HgTM:&amp;tbnh=127&amp;tbnw=100&amp;prev=/images%3Fq%3Dsharks%26start%3D20%26gbv%3D2%26ndsp%3D20%26hl%3D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206.photobucket.com/albums/bb96/clairesgotsoul/blog/78027Great-White-Shark-Posters.jpg&amp;imgrefurl=http://soulchips.blogspot.com/2007/10/sharks_28.html&amp;h=450&amp;w=301&amp;sz=46&amp;hl=en&amp;start=73&amp;tbnid=R3nYiTPSrVYAdM:&amp;tbnh=127&amp;tbnw=85&amp;prev=/images%3Fq%3Dsharks%26start%3D6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hotos.igougo.com/images/p174501-Barcelona-Sharks.gif&amp;imgrefurl=http://photos.igougo.com/pictures-photos-r1176176-p174501-Sharks.html&amp;h=320&amp;w=480&amp;sz=106&amp;hl=en&amp;start=111&amp;tbnid=z6sczBoYO2PzHM:&amp;tbnh=86&amp;tbnw=129&amp;prev=/images%3Fq%3Dsharks%26start%3D10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ifeglobe.com/images/product/Sharks/sharks04_r2_c2.jpg&amp;imgrefurl=http://www.indiankey.com/shareware/Code/listing/ProgramDescription.asp%3FProgId%3D8906&amp;h=438&amp;w=579&amp;sz=48&amp;hl=en&amp;start=143&amp;tbnid=WBxT395K_OsoYM:&amp;tbnh=101&amp;tbnw=134&amp;prev=/images%3Fq%3Dsharks%26start%3D14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Shark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00040" y="3885840"/>
            <a:ext cx="2895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John R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37339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77920"/>
            <a:ext cx="78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o you think sharks are cool? Then check out my report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9160" y="1600200"/>
            <a:ext cx="4211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45828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arks can have 100 or 1,000 teeth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a shark loses a tooth the one behind it come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some men shave with shark teet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3429000"/>
            <a:ext cx="23623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467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f sharks stop swimming they will sink to the ocean floor and die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441520"/>
            <a:ext cx="807732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has to swim all the time even when the shark is sleeping at nigh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doesn’t stop swimming because it will sink and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4800600"/>
            <a:ext cx="3581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most dangerous shark is the Great White shark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white shark is big, white, and b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white shark has big teeth that sink into seals, and other fish even other shar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3429000"/>
            <a:ext cx="35812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harks do not have smooth scales like other fish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ark has pointed scales and other fish do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rub your finger against a shark, it will cut your h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0384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 hope you hade a good time reading my report.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858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9:25Z</dcterms:modified>
  <cp:revision>3</cp:revision>
  <dc:subject/>
  <dc:title>Animal Name</dc:title>
</cp:coreProperties>
</file>